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844-E8A0-48BF-A508-F3675A48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1E9-6919-4BF5-9ACD-E833541B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A26-CAB9-4C22-9E19-AB72D545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8C8-7795-4D8B-A65B-665E202E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C808-1550-486B-9201-6DE2D843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48FF-25A8-4B96-9A47-A208A3A4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6250-6C68-4851-AD3A-B84C7393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9637-FEEA-4253-923C-8D95EE4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D0D4-9069-476A-8DAF-3E2948C7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562F-9E30-4B30-BC66-3FF5FD51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52BB-4386-45A8-9368-FA0F595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E61-95D5-4EF9-ACCE-FEBDD6D9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4214-55E1-4D87-B708-DDDB6170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D799-0255-4809-9192-46C9706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C2D2-1691-492D-ADF5-009D2332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09F8-EC9A-4DAA-BBAF-58D25BAF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7C8E-D715-4C12-8168-B3D20BA0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0C0-0B5F-4C23-B41D-65A4491B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2A0-594A-4D55-A1B1-97C4F798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1A9-A41A-40B1-ACD8-9EFC28E1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836-98CD-4C22-AFE6-FA3CFF25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93F-B1A4-4C4D-8D91-DB5CBBEC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2E2-FAF2-4ED9-A026-0F16EE54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C60-8ECF-4762-ADA2-63AAE14F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f07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6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07f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F999-0A4E-4276-ACC4-4C04FD4238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07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e3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6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07f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415B-2774-482C-B88A-7F4E9E5541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323232"/>
                </a:solidFill>
                <a:latin typeface="Broadway"/>
              </a:rPr>
              <a:t>Stillbirth</a:t>
            </a:r>
            <a:endParaRPr b="0" lang="en-US" sz="48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x Brinsmead MB BS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y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23232"/>
                </a:solidFill>
                <a:latin typeface="Times New Roman"/>
              </a:rPr>
              <a:t>Targeted or Advanced Investigations</a:t>
            </a:r>
            <a:endParaRPr b="0" lang="en-US" sz="40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For all patients (if resources perm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ile salts for cholest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Thyroid function te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HBA1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t will be normal in most women with gestational dia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TORCH serology (using booking bloods as a baseline &amp; looking for seroconversion or rise in titre)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ther here = Parvovirus, Malaria, Leptospirosis, Listeriosis, Typhus, Ly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lood group antibodies ± HB EPP when there is fetal hydr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aternal thrombophophilia screen with IUGR or after identified placental pat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23232"/>
                </a:solidFill>
                <a:latin typeface="Times New Roman"/>
              </a:rPr>
              <a:t>Targeted Investigations cont.’d</a:t>
            </a:r>
            <a:endParaRPr b="0" lang="en-US" sz="40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aternal anti-Ro and anti-La antibo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there is fetal hy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etal endomyocardial fibro-elastosis or calcified AV n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aternal antiplatelet antibo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there is fetal intracranial haemorr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Parental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there is unbalanced fetal chromosomal abnormality including 45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current pregnancy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Clinical or laboratory evidence of chorio-amnionitis requires suitable samples from mother and fetus/plac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mitations recogn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utop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23232"/>
                </a:solidFill>
                <a:latin typeface="Times New Roman"/>
              </a:rPr>
              <a:t>Management of Intrauterine Death</a:t>
            </a:r>
            <a:endParaRPr b="0" lang="en-US" sz="40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areful counselling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ncourage mother to vaginal birth after 24-48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Earlier if pre eclamptic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Twice weekly DIC screen for mothers who del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Prostaglandins (+ Mefipristone) are the agents of ch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 few patients require abdominal deli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Failure of induction + some other probl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High risk of uterine rup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Generous pain reli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Use SC morphine or Omnop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or epidural after COAG scre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23232"/>
                </a:solidFill>
                <a:latin typeface="Times New Roman"/>
              </a:rPr>
              <a:t>Management of Stillbirth cont.’d</a:t>
            </a:r>
            <a:endParaRPr b="0" lang="en-US" sz="40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000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arly delivery enhances fetal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ntibiotics required only for chorioamnioni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GBS Prophylaxis not requir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Limit VE’s and delay amniot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void Foley cathe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Oxytocin in high concentration may be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t be careful when there is a uterine 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e very careful about assigning s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SH if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sider thromboprophyl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ffer puerperal lactation 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n pharmacological measures control 2/3rds of discomfort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ngle dose Carbegoline is the drug of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23232"/>
                </a:solidFill>
                <a:latin typeface="Times New Roman"/>
              </a:rPr>
              <a:t>Psychological Management of Stillbirth</a:t>
            </a:r>
            <a:endParaRPr b="0" lang="en-US" sz="36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e aware of individual &amp; cultural var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onsider the best environment for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lance safety with priv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ancel all appointments etc. that assume an ongoing pregna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Incl. the G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Remember partner &amp;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Incl. children &amp; grandpar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anage as a potential for post traumatic stress dis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Offer counselling &amp;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Use support groups e.g. S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Provide a leaflet or simila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23232"/>
                </a:solidFill>
                <a:latin typeface="Times New Roman"/>
              </a:rPr>
              <a:t>Psychological Management cont.’d</a:t>
            </a:r>
            <a:endParaRPr b="0" lang="en-US" sz="36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courage contact but do not persuade or en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 use the bit by bit uncover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courage but do not press artefacts of rememb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Photos, palm &amp; footprints, locks of hai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Store them in case patients ask l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courage 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nd use that 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aise with elders of religion or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unerals are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mence a book of rememb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23232"/>
                </a:solidFill>
                <a:latin typeface="Times New Roman"/>
              </a:rPr>
              <a:t>Stillbirth Follow up</a:t>
            </a:r>
            <a:endParaRPr b="0" lang="en-US" sz="36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member contra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Ovulation can occur quickly when lactation is suppres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scuss the best time and place for 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ve all the result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vide general &amp; specific advice for the next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lay conception until the grief work 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ut delay often heightens partner anxie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Consider physical aspects such as Hb restoration and uterine scar heal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bsolute risk of early conception is sma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llow up with a written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23232"/>
                </a:solidFill>
                <a:latin typeface="Times New Roman"/>
              </a:rPr>
              <a:t>Pregnancy after Stillbirth</a:t>
            </a:r>
            <a:endParaRPr b="0" lang="en-US" sz="36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arly booking &amp; careful d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Obstetric consul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creen for gestational diabe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onitor fetal growth if previous loss was associated with IUG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Large studies indicate an increased risk of stillbirth ≈12-fold independent of known recurrent ca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iming of delivery needs to take into acco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Risks to the bab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Potential mode of delive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The time of the previous fetal lo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The wishes of the pati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23232"/>
                </a:solidFill>
                <a:latin typeface="Times New Roman"/>
              </a:rPr>
              <a:t>A Baby after Previous Stillbirth</a:t>
            </a:r>
            <a:endParaRPr b="0" lang="en-US" sz="36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2060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onding issues can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currence of grief may be trigg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re is an increased risk of postnatal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ng term impact on the child needs to be acknowl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never forget the impact of stillbirth on carers and staff in maternity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040" y="2177640"/>
            <a:ext cx="66294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323232"/>
                </a:solidFill>
                <a:latin typeface="Times New Roman"/>
              </a:rPr>
              <a:t>Any Questions or Comments?</a:t>
            </a:r>
            <a:endParaRPr b="0" lang="en-US" sz="48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leave a note on the Welcome Page to thi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323232"/>
                </a:solidFill>
                <a:latin typeface="Times New Roman"/>
              </a:rPr>
              <a:t>This presentation will consider...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256500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and 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nosis of intrauterine feta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ediate management after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tions required after still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practice intrapartum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ychological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erperal care and 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323232"/>
                </a:solidFill>
                <a:latin typeface="Times New Roman"/>
              </a:rPr>
              <a:t>Definition and Incidence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irth of a baby who shows no evidence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Heartbeat or breath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finition varies from place to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In Australia from 20w or 400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WHO 500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In the UK from 24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&gt;350g in some states of 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verall incidence 1:200 total bir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Rate of SIDS is 1:10,000 livebirth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ate varies from 5 per 1000 resource rich countries to 32 per 1000 in South Asia &amp; Sub-Sahara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323232"/>
                </a:solidFill>
                <a:latin typeface="Times New Roman"/>
              </a:rPr>
              <a:t>Trends in Incidence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y decline through last half of la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overall reduction in perinatal mortality due to many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example the prevention of Rh dise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 have levelled from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haps because any improvement in medical care has been cancelled by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ing maternal age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323232"/>
                </a:solidFill>
                <a:latin typeface="Times New Roman"/>
              </a:rPr>
              <a:t>Types of Stillbirth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erated still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kin peeling implies that intrauterine fetal death has occurred &gt;24 hours prior to delive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 still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lies that fetal death occurred after the onset of labour and is perhaps a reflection of intrapartum c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tter referred to as intrapartum dea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323232"/>
                </a:solidFill>
                <a:latin typeface="Times New Roman"/>
              </a:rPr>
              <a:t>Diagnosis of Stillbirth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of fetal movements is the usual symp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 requires real-time ultra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agnosis based on absence of fetal heart sounds will be wrong up to 20% of the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th false positives and false negatives can occ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p clip ECG is a dramatic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colour Doppler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re oligohydramn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oss obes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323232"/>
                </a:solidFill>
                <a:latin typeface="Times New Roman"/>
              </a:rPr>
              <a:t>Immediate Management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or a support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bad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mother time to assimi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early follow up and suppor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writte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ware that mother may feel passive fetal movements after feta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be prepared to repeat the ultra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ond opinion or look is a good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 reactions can vary quite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323232"/>
                </a:solidFill>
                <a:latin typeface="Times New Roman"/>
              </a:rPr>
              <a:t>Investigations of a stillbirth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rents wan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re will be no answer ≈ 50%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 that some positive findings may not be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example +ve ANA or thrombophilia heterozygo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psy requires encouragement and a careful cons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bout 10% of cases autopsy will reveal findings of relevance for the next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 needs to be tailor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linical circumst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resources availabl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323232"/>
                </a:solidFill>
                <a:latin typeface="Times New Roman"/>
              </a:rPr>
              <a:t>Basic Investigations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0000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egin with fetal w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Calculate weight centile for ges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lways send the placenta and membranes for pat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Preferably to a perinatal patholog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aternal FBC, UEC, LFT’s &amp; Random GLU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erology for syphilis and 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aternal COAG scr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aternal Kleihauer ASAP after fetal de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Fetomaternal haemorrhage a rare cause of IUF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Large doses of Anti-D sometimes requi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Fetal chromosomes desirable – 6% are ab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Requires parental cons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5:09:29Z</dcterms:created>
  <dc:creator>Max Brinsmead</dc:creator>
  <dc:description/>
  <dc:language>en-US</dc:language>
  <cp:lastModifiedBy>Max</cp:lastModifiedBy>
  <dcterms:modified xsi:type="dcterms:W3CDTF">2015-05-27T05:06:43Z</dcterms:modified>
  <cp:revision>32</cp:revision>
  <dc:subject/>
  <dc:title>Hysterectomy</dc:title>
</cp:coreProperties>
</file>