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449-4160-4663-9AD6-7CFA249B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78D-197E-436B-9FA4-3FDF6C3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FA4-D5CE-49E3-B38B-80D90FC4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A51-675E-4698-948A-EAA09398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B596-7D11-4E89-867B-C81C9212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FFA2-6FCF-4B56-B8ED-EFA363A7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D724-FDB2-4149-A6D5-2E61F607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0860-05D6-4CF8-9C48-E643586D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CFF7-F9B8-4D1A-BF87-35C2D98E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5053-8B45-4168-B8DF-85CE3A4C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9620-F63D-406F-BBBF-C02F8380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019-FAB9-48B2-893B-46A4B6DE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73FB-1BBD-430E-9F26-597B638C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F5C4-715A-4F1B-8C56-52A24A4D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AE27-F442-4E58-AD94-CA58DAA6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0F32-9EAB-4D76-A13C-5EE72731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0359-315B-4BCD-AC40-6596EB66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3F2-8CD8-47E4-A93A-F0B90D03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8CF-2D53-4AA0-BF45-EFB2C065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F9D-A98D-41BF-93FE-ACB9013F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3EF-B839-4D5A-85E5-139B0CEA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5A2-8EEE-474E-A8D0-7899BFA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BD2-12AB-495A-9492-F643BA5D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1E1-6117-4B92-AED4-D1FCA6B1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0D2D-A005-482E-8F4F-2EC7462CE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B90B-EF48-47FA-AFA9-3F6707D484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dbbd71"/>
                </a:solidFill>
                <a:latin typeface="Arial"/>
              </a:rPr>
              <a:t>Contraceptive Problem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x Brinsmead MB BS Ph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rch 20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bbd71"/>
                </a:solidFill>
                <a:latin typeface="Arial"/>
              </a:rPr>
              <a:t>Victoria 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ictoria is prescribed Levlen 30 ED but is experiencing break through bleeding when she returns after 6 weeks.  She says that she also feels “pre menstrual” all the time and has lost interest in s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What would you recomme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bbd71"/>
                </a:solidFill>
                <a:latin typeface="Arial"/>
              </a:rPr>
              <a:t>29 yo Nullipara develops BTB on Levlen &amp; reduced libido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Breakthrough bleeding is too little oestrog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It’s too early to change the formulation. BTB is common for 2 – 3 cycles but may then disappear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Check complianc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If the problem persists then switch up to 50 ug E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Low libido arises from the progesti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It may be too early to switch formulation for her other side effects as well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These problems may respond to a switch to a 3</a:t>
            </a:r>
            <a:r>
              <a:rPr b="0" lang="en-AU" sz="26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or 4</a:t>
            </a:r>
            <a:r>
              <a:rPr b="0" lang="en-AU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generation progestin e.g. Marvelon or Yasmi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bbd71"/>
                </a:solidFill>
                <a:latin typeface="Arial"/>
              </a:rPr>
              <a:t>Working at the After Hours Medical Centr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amantha is a 22 year old single receptionist who has had one previous baby.  She comes after a 7-day cruise holiday and reports that, “on the first night of the cruise the condom broke” during intercourse with a new part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further information do we requi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are the contraceptive options for Samanth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dbbd71"/>
                </a:solidFill>
                <a:latin typeface="Arial"/>
              </a:rPr>
              <a:t>22 yo P</a:t>
            </a:r>
            <a:r>
              <a:rPr b="0" lang="en-AU" sz="3600" spc="-1" strike="noStrike" baseline="-25000">
                <a:solidFill>
                  <a:srgbClr val="dbbd71"/>
                </a:solidFill>
                <a:latin typeface="Arial"/>
              </a:rPr>
              <a:t>1</a:t>
            </a:r>
            <a:r>
              <a:rPr b="0" lang="en-AU" sz="3600" spc="-1" strike="noStrike">
                <a:solidFill>
                  <a:srgbClr val="dbbd71"/>
                </a:solidFill>
                <a:latin typeface="Arial"/>
              </a:rPr>
              <a:t> 7 days post-coital emergenc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as she using any other method of contrace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ate of LNMP and usual cycle leng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s there a need for ongoing contrace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y contraindications to copper IUCD u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r knowledge of ST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Was the condom the sole means of contraception or was it for STD protectio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If she was definitely post ovulatory then the risk of conception is low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This is too late for Pills (5 days) but an IUD is still an option (7 days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IUD will provide ongoing contraceptio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Copper-containing IUD is recommended and not Miren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Testing for STD is probably requir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bbd71"/>
                </a:solidFill>
                <a:latin typeface="Arial"/>
              </a:rPr>
              <a:t>In the Antenatal Clini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ronwyn is a 38 year old about to undergo her third and elective Caesarean section in an unplanned pregnancy that occurred whilst she was “taking the Pill”.  She has a known uterine fibroid and was treated for CIN3 5 years ago.  In the past she has had “very heavy and irregular periods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further information do we requi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are the contraceptive options for Bronwy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-25000">
                <a:solidFill>
                  <a:srgbClr val="dbbd71"/>
                </a:solidFill>
                <a:latin typeface="Arial"/>
              </a:rPr>
              <a:t>38 yo P2 for CS. Failed COC. Fibroid. CIN3 5 yrs ago. Menorrhag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y more pregnancies wan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s her CIN cu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Location of the fibr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Tubal ligation at the time of her CS is simple but will not control her menorrhagia and has a 1% risk of failur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If the HPV test for high risk subtypes is negative then the CIN is inconsequential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Besides, hysterectomy or even myomectomy at the time of CS is not a good ide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Mirena may be a better option unless the fibroid is submucosal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Or even tubal ligation plus a trial of the Miren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bbd71"/>
                </a:solidFill>
                <a:latin typeface="Arial"/>
              </a:rPr>
              <a:t>A GP Consult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obin and Mia come to talk to you about a vasectomy.  Mia is 34 and Robin is 28. They have been married for 5 years and do not want any children.  Three years before she met Robin Mia had a son, currently 8 years of age and a handful because of ADD. Mia has a Implanon but is experiencing frequent vaginal blee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further information do we requi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are the contraceptive options for Robin and Mi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-25000">
                <a:solidFill>
                  <a:srgbClr val="dbbd71"/>
                </a:solidFill>
                <a:latin typeface="Arial"/>
              </a:rPr>
              <a:t>F34 &amp; M28. One child with ADD. Implanon but bleeding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hat if something were to happen to the child or the relation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re there any contraindications to COC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Or contraindications to IUCD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Vasectomy is not a good option because this male is likely to regret it if there is a relationship failur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If Mia is unwilling or unrelaible or unsuitable for long term COC use the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Mirena or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Tubal ligation are better option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bbd71"/>
                </a:solidFill>
                <a:latin typeface="Arial"/>
              </a:rPr>
              <a:t>A Question of Drug Intera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indy is an 18 year old who takes Logynon for contraception.  She has moderately severe pustular acne and a dermatologist has recommended that she goes on Vibramycin 100 mg daily for 6-12 months. The dermatologist has recommended that she consults you about her current COC formul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y is the dermatologist concern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would you recomme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-25000">
                <a:solidFill>
                  <a:srgbClr val="dbbd71"/>
                </a:solidFill>
                <a:latin typeface="Arial"/>
              </a:rPr>
              <a:t>18 yo on Logynon (20 ug EE) about top start Doxycline long term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re is a small risk that the antibiotic may alter bowel flora and the enterohepatic recirculation of oestrogen required for ovulation sup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May be heralded by break through bl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Step up the dose of EE to 30 or 50 ug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Consider lengthening cycles to 3 months an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Shortening the placebo period to 4 or 5 day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Or just add a POP and take pills morning and night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bbd71"/>
                </a:solidFill>
                <a:latin typeface="Arial"/>
              </a:rPr>
              <a:t>Postnatal Consult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lizabeth, a 40 year-old multiparous patient, visits for her 6 week check after the birth of her fourth child.  The recent pregnancy occurred after a condom failure and was complicated by third trimester hypertension.  She is keen to discuss her contraceptive alterna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further information do we requi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are the contraceptive options for Elizabet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227772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dbbd71"/>
                </a:solidFill>
                <a:latin typeface="Arial"/>
              </a:rPr>
              <a:t>Any Questions or Comments?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32000" y="3492000"/>
            <a:ext cx="7456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leave a note on the Welcome Page to this webs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bbd71"/>
                </a:solidFill>
                <a:latin typeface="Arial"/>
              </a:rPr>
              <a:t>40 yo P</a:t>
            </a:r>
            <a:r>
              <a:rPr b="0" lang="en-AU" sz="3200" spc="-1" strike="noStrike" baseline="-25000">
                <a:solidFill>
                  <a:srgbClr val="dbbd71"/>
                </a:solidFill>
                <a:latin typeface="Arial"/>
              </a:rPr>
              <a:t>4 </a:t>
            </a:r>
            <a:r>
              <a:rPr b="0" lang="en-AU" sz="3200" spc="-1" strike="noStrike">
                <a:solidFill>
                  <a:srgbClr val="dbbd71"/>
                </a:solidFill>
                <a:latin typeface="Arial"/>
              </a:rPr>
              <a:t>6w postpartum and some PIH..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oes she want more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s she breastfe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hat are her periods 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s she likely to be a “good pill take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other relevant family or personal histor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34136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ahoma"/>
              </a:rPr>
              <a:t>If the family is complete then vasectomy is the best optio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ahoma"/>
              </a:rPr>
              <a:t>If the husband is unwilling then tubal ligation is next best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ahoma"/>
              </a:rPr>
              <a:t>Interim contraception is required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ahoma"/>
              </a:rPr>
              <a:t>If she is breastfeeding a POP would suffic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ahoma"/>
              </a:rPr>
              <a:t>If she has unacceptable periods then Mirena would be better than male or female sterilisatio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f she is not a good pill taker then Implanon or IUD bette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f we elect COC, POP or IUD then we need to check personal and family contraindications to each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bbd71"/>
                </a:solidFill>
                <a:latin typeface="Arial"/>
              </a:rPr>
              <a:t>Teenage Consult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ammy is a 15 year old mildly obese and mentally slow girl brought along by her mother “for the pill”.  Her mother tells you that she herself is on Warfarin because of a previous DVT associated with homozygous Factor V Leid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further information do we requi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are the contraceptive options for Tamm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bbd71"/>
                </a:solidFill>
                <a:latin typeface="Arial"/>
              </a:rPr>
              <a:t>15 yo Low IQ and FH of Factor V Leiden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s it contraception, protection from STD or menstrual problems that the mother is there f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ome cycle his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ome sexual his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s this patient likely to comply with daily medication or cond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Factor V Leiden test is homozygous posi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Mirena is a better option than Depot Provera or Implanon for this patient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All provide excellent contraception with no thromboembolic risk but PV bleeding can be a problem for the latter two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Depot may cause osteoporosis when used long term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Only condoms (male or female) will protect from STD’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Hysterectomy is often requested but problematical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bbd71"/>
                </a:solidFill>
                <a:latin typeface="Arial"/>
              </a:rPr>
              <a:t>At the Aboriginal Health Serv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aquel is a 32 year old woman undergoing her 3</a:t>
            </a:r>
            <a:r>
              <a:rPr b="0" lang="en-AU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termination of pregnancy in two years.  She is morbidly obese, prediabetic and she smokes 20-25/day.  She has one child in the care of a former partner’s parents. She says that she “bled all the time after the needle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further information do we requi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are the contraceptive options for Raqu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bbd71"/>
                </a:solidFill>
                <a:latin typeface="Arial"/>
              </a:rPr>
              <a:t>32 yo G</a:t>
            </a:r>
            <a:r>
              <a:rPr b="0" lang="en-AU" sz="3200" spc="-1" strike="noStrike" baseline="-25000">
                <a:solidFill>
                  <a:srgbClr val="dbbd71"/>
                </a:solidFill>
                <a:latin typeface="Arial"/>
              </a:rPr>
              <a:t>4</a:t>
            </a:r>
            <a:r>
              <a:rPr b="0" lang="en-AU" sz="3200" spc="-1" strike="noStrike">
                <a:solidFill>
                  <a:srgbClr val="dbbd71"/>
                </a:solidFill>
                <a:latin typeface="Arial"/>
              </a:rPr>
              <a:t>P</a:t>
            </a:r>
            <a:r>
              <a:rPr b="0" lang="en-AU" sz="3200" spc="-1" strike="noStrike" baseline="-25000">
                <a:solidFill>
                  <a:srgbClr val="dbbd71"/>
                </a:solidFill>
                <a:latin typeface="Arial"/>
              </a:rPr>
              <a:t>1</a:t>
            </a:r>
            <a:r>
              <a:rPr b="0" lang="en-AU" sz="3200" spc="-1" strike="noStrike">
                <a:solidFill>
                  <a:srgbClr val="dbbd71"/>
                </a:solidFill>
                <a:latin typeface="Arial"/>
              </a:rPr>
              <a:t>T</a:t>
            </a:r>
            <a:r>
              <a:rPr b="0" lang="en-AU" sz="3200" spc="-1" strike="noStrike" baseline="-25000">
                <a:solidFill>
                  <a:srgbClr val="dbbd71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dbbd71"/>
                </a:solidFill>
                <a:latin typeface="Arial"/>
              </a:rPr>
              <a:t> Obese Pre-diabetic Smoker Bleeding after Depot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ner(s) relationship and wish for more child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omething about her spontaneous cy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More details about Depot experience. Who, where, when and how man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hat other methods of contraception has she used or does she know ab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hat does she we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All oral contraception is contraindicat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Sterilisation may be a good option for this patient but it may be technically difficult. Essure maybe?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Mirena would be a good option but she would need to be warned about the “settling in” bleeding that occur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If Implanon or a POP is elected she may require two!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bbd71"/>
                </a:solidFill>
                <a:latin typeface="Arial"/>
              </a:rPr>
              <a:t>At the Family Planning Clini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Victoria is a 29-year old business executive who has always experienced severe dysmenorrhoea with her periods.  Her mother died from breast cancer.  She has never been pregn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further information do we requi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at are the contraceptive options for Victori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bbd71"/>
                </a:solidFill>
                <a:latin typeface="Arial"/>
              </a:rPr>
              <a:t>29 yo Nullipara Severe Dysmenorrhoea Mother breast Ca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Mother’s age when she developed breast 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y other relatives with breast, ovarian or bowel canc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y FH endometri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y other contraindication to C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s she a good pill-ta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The COC increases a woman’s lifetime risk of 1.24-fold but the absolute risk is low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If there are multiple others in the family with Ca of breast, ovary, bowel then this patient may require testing for BRAC gene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COC is a reasonable option and has a good chance of reducing dysmenorrhoea and maybe endometriosi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Mirena would be the next best option if compliance a problem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9T03:19:21Z</dcterms:created>
  <dc:creator>Max Brinsmead</dc:creator>
  <dc:description/>
  <dc:language>en-US</dc:language>
  <cp:lastModifiedBy>Max</cp:lastModifiedBy>
  <dcterms:modified xsi:type="dcterms:W3CDTF">2015-05-25T11:32:32Z</dcterms:modified>
  <cp:revision>26</cp:revision>
  <dc:subject/>
  <dc:title>Contraceptive Problems</dc:title>
</cp:coreProperties>
</file>