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45B-A46A-45D3-994B-C25DB34C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EDF-5403-462B-9F5F-65BD95DE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333-9B26-4955-9801-8A27288A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167-8A42-423F-9A3F-056807DC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2896-A7F6-4C13-BEE8-E0E2BCA2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9321-F7FD-401E-8190-3B589162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FFE0-13F7-4D70-807E-9F4EAD4A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68DD-9EDF-4D1C-9C89-0824EEAE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B049-58CA-4CD9-84E0-180293AA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F78B-5A27-40A2-84FC-967C969F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6590-6653-41C5-809E-01746C3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463-069F-46C9-8769-E510029F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0AD0-A908-497B-822E-ACC13861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5A4E-5C21-4D98-B048-DE3AB110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44CB-366D-4646-B4B1-0356AFF8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C682-1EEE-4714-B810-58DE8305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59AB-66DB-4A33-8B3C-C01F62DA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5897-BB7A-4D10-810E-B1325C01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11B2A-C38A-46C4-83B6-A4039B02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C1E5-5B64-41C2-B75A-BE05ED45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166A0-33A7-498B-A55C-3C123FA1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15C25-58A3-4E37-B686-EFCC0292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F8B-EFA4-4045-B194-4F9EC107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295E-D5E0-4A3D-AD5B-5823051E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C112-C0A8-4EF4-9C3C-7A52E89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B12A-E23F-4983-AA0F-45B6BDBF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5ABD-D105-44A9-A103-C51E0212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F10D-840C-4D89-8CD8-67FC29C1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9A97-302E-464C-8509-CAA4EBB2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746B-1568-41D6-A807-F538F38D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66324-3480-4539-B430-8A6479F0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F85A-B4D2-489F-AF22-5B7635E0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FFE49-4D0E-48DC-8EBC-16699952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BA9-4B51-4E1F-86FB-68ACED77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CAE7C-E3AE-47DD-AE2A-0E608632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2F33-8F5E-4F0A-B9E2-76342352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E4FF9-9188-498A-A9C9-CF70E59B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02A3-3D6B-4CC2-AC58-3DBC54CD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22A42-8FFF-44CB-A5AE-8D0032FC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009B-D366-4F0C-AA14-8C2031B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62968-37FF-4FA8-9BB5-D9271F8A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A21AE-A75C-45A2-B915-F211B6CE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A459-0324-475C-9FD1-B483BDA4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DD96-726B-4468-84A1-FAA25DFB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2F0-1FDB-4075-9878-E68714E6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4504C-31CA-4062-B5A9-334B6F0F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77FB2-E011-4220-A775-BFDBE2D9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6FAEA-69B7-40E5-BFB3-8578981C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2F47B-E146-43F0-81B8-0B4ADE27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BF7D-F925-4B22-98A2-9F39617F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5A36A-6CEE-405A-9786-F695315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2CA3-05F0-45B2-B494-841DFE6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00EC8-4912-4A41-9A82-9EE853A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684F-723D-4BA6-BE1B-C323C936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EE130-5B3E-4681-8141-E3342B92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C6C-F048-4A42-8E9D-4DD2E42F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8654-3E1A-4387-8F2F-5AEFF127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43818-DE4E-44CC-A4ED-53DB9516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823EE-9AAA-4BB7-A6D4-FE311F32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4359D-A2E0-4F45-8638-4BE6404F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C237B-C8DE-4BA0-9D0E-7E0416A9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364E0-C350-47A0-97D0-1C73791A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BBA63-7506-4C67-A77D-316310FE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D4DEA-9D91-4B53-A5DA-0464DB99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79AAB-B471-42E2-A106-C94D3873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E3B87-7247-4B02-AAB4-2B9D59B1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202-4404-45B2-A962-E650009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75935-D827-4B0D-9740-2F0D1CBD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3B3EE-EC41-43B9-BCC7-D79B3BDB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B5CDF-782C-470D-8AC5-1CE6773B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40260-34C1-42C8-B120-8BDB4AB2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BEB9C-FBD1-4F7B-AE05-FBC9C83A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01F25-E1CE-45D8-A3AD-F424ADF5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73160-B902-402E-A7AF-31550456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A58DA-90F7-4895-A4F4-50D8FBF3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974F5-6D86-4600-92A1-B5E8C125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583DA-4A33-4632-BA20-7305F6D1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0367-4E35-4EB0-9BE2-D0BB4C3A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25DFA-0FE3-41C3-B18A-EDD5A49B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C1959-C5D0-4F4C-A05C-D25B558D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3467A-538B-4A1A-93C7-011EFEB8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D3768-BD79-4EF0-8F10-A53D331D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08365-ACB6-4A85-B9E0-98DF4E20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C10-FDDE-4259-AFA1-F16C5713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3bc91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651A-9786-43AC-AC99-E803D89B9CF3}" type="slidenum">
              <a:rPr b="0" lang="en-A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3bc91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3bc91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C802-5CEC-460E-BA80-AF90F712930F}" type="slidenum">
              <a:rPr b="0" lang="en-A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3bc91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9E03-A42A-428C-9E41-172732C3C764}" type="slidenum">
              <a:rPr b="0" lang="en-A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6E41-88B0-4E25-B3AA-563581D4670E}" type="slidenum">
              <a:rPr b="0" lang="en-A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8502-78DA-453B-999A-0869E6305463}" type="slidenum">
              <a:rPr b="0" lang="en-A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AED1-2391-4363-B3E7-54FBB75E6881}" type="slidenum">
              <a:rPr b="0" lang="en-A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3bc91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e3bc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bc91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D84E-F52C-440D-A266-D864D8EA8F33}" type="slidenum">
              <a:rPr b="0" lang="en-AU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1628280"/>
            <a:ext cx="7407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300" spc="-1" strike="noStrike">
                <a:solidFill>
                  <a:srgbClr val="5f688b"/>
                </a:solidFill>
                <a:latin typeface="Gill Sans MT"/>
              </a:rPr>
              <a:t>Pain and Bleeding in Early Pregnancy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3645000"/>
            <a:ext cx="7407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23851"/>
                </a:solidFill>
                <a:latin typeface="Gill Sans MT"/>
              </a:rPr>
              <a:t>Max Brinsmead MB BS PhD</a:t>
            </a: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23851"/>
                </a:solidFill>
                <a:latin typeface="Gill Sans MT"/>
              </a:rPr>
              <a:t>March 2017</a:t>
            </a: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688b"/>
                </a:solidFill>
                <a:latin typeface="Gill Sans MT"/>
              </a:rPr>
              <a:t>A patient with 6-8 weeks amenorrhoea, PV bleeding and abdominal pain</a:t>
            </a:r>
            <a:endParaRPr b="0" lang="en-US" sz="28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1618"/>
                </a:solidFill>
                <a:latin typeface="Gill Sans MT"/>
              </a:rPr>
              <a:t>What is the best way to proceed from here?</a:t>
            </a: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1618"/>
                </a:solidFill>
                <a:latin typeface="Gill Sans MT"/>
              </a:rPr>
              <a:t>What other tests may be desirable</a:t>
            </a: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1618"/>
                </a:solidFill>
                <a:latin typeface="Gill Sans MT"/>
              </a:rPr>
              <a:t>PV ultrasound will tells us if there is an intrauterine pregnancy (IUP), and possibly its viability</a:t>
            </a:r>
            <a:r>
              <a:rPr b="0" lang="en-US" sz="2200" spc="-1" strike="noStrike">
                <a:solidFill>
                  <a:srgbClr val="e3bc91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e3bc91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3bc91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1618"/>
                </a:solidFill>
                <a:latin typeface="Gill Sans MT"/>
              </a:rPr>
              <a:t>Take blood for blood group, antibodies and hold for a possible quantified  ßHCG &amp; HB</a:t>
            </a:r>
            <a:endParaRPr b="0" lang="en-US" sz="2200" spc="-1" strike="noStrike">
              <a:solidFill>
                <a:srgbClr val="e3bc91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3bc91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1618"/>
                </a:solidFill>
                <a:latin typeface="Gill Sans MT"/>
              </a:rPr>
              <a:t>Cx swab for Chlamydia PCR if PV done</a:t>
            </a:r>
            <a:endParaRPr b="0" lang="en-US" sz="2200" spc="-1" strike="noStrike">
              <a:solidFill>
                <a:srgbClr val="e3bc91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88b"/>
                </a:solidFill>
                <a:latin typeface="Gill Sans MT"/>
              </a:rPr>
              <a:t>Scan report: No intrauterine sac seen but thickened endometrium consistent with a decidua reaction is identified. There is a 4 – 5 cm echolucency in the right adnexa with some mixed echogenicity. No free fluid in the pelvis. Ectopic pregnancy cannot be excluded</a:t>
            </a:r>
            <a:endParaRPr b="0" lang="en-US" sz="20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2349000"/>
            <a:ext cx="365760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11618"/>
                </a:solidFill>
                <a:latin typeface="Gill Sans MT"/>
              </a:rPr>
              <a:t>What is the next best step(s)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Is referral to hospital required?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276880" y="1773000"/>
            <a:ext cx="3657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Quantified ßHCG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If &gt;3000 IU/L then this is ectopic pregnancy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The result was 980 IU/L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If repeated after 48 hours and &gt;1.5 fold rise then prognosis is good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88b"/>
                </a:solidFill>
                <a:latin typeface="Gill Sans MT"/>
              </a:rPr>
              <a:t>Two days later Sara has no pain or bleeding. Quant ßHCG is 1200 IU/L. HB is 12 and Blood Group O Neg</a:t>
            </a:r>
            <a:endParaRPr b="0" lang="en-US" sz="28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2133720"/>
            <a:ext cx="36576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What steps are now required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Anti-D administration to prevent possible Rhesus isoimmunisation is desirable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A repeat scan in 7 – 14 days to check for signs of IUP and viability is desirable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88b"/>
                </a:solidFill>
                <a:latin typeface="Gill Sans MT"/>
              </a:rPr>
              <a:t>Two weeks later Sara has had no pain or bleeding but says that she “no longer feels pregnant”</a:t>
            </a:r>
            <a:endParaRPr b="0" lang="en-US" sz="28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2133720"/>
            <a:ext cx="36576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What steps are now required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Early pregnancy ultrasound or referral to an Early Pregnancy Assessment Service for further care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Some counselling about miscarriage may be desirable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88b"/>
                </a:solidFill>
                <a:latin typeface="Gill Sans MT"/>
              </a:rPr>
              <a:t>Scan report: There is an empty intrauterine sac with a mean diameter of 2.6 cm. There is no free fluid in the pelvis and the previously identified adnexal mass has disappeared. Appearances are consistent with a blighted ovum.</a:t>
            </a:r>
            <a:endParaRPr b="0" lang="en-US" sz="20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2349000"/>
            <a:ext cx="365760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11618"/>
                </a:solidFill>
                <a:latin typeface="Gill Sans MT"/>
              </a:rPr>
              <a:t>What is the correct diagnosis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What options are available to Sara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Explain each as you would to Sara 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276880" y="1844280"/>
            <a:ext cx="3657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Early pregnancy loss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Wait and see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Medical evacuation of the uterus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Surgical evacuation of the uterus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88b"/>
                </a:solidFill>
                <a:latin typeface="Gill Sans MT"/>
              </a:rPr>
              <a:t>Sara goes home quite upset to think about it. That night she experiences further crampy abdominal pain and PV bleeding. She presents to ED feeling faint and she looks pale.</a:t>
            </a:r>
            <a:endParaRPr b="0" lang="en-US" sz="20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2349000"/>
            <a:ext cx="365760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11618"/>
                </a:solidFill>
                <a:latin typeface="Gill Sans MT"/>
              </a:rPr>
              <a:t>What would you do if you were the ED officer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Have we missed an ectopic pregnancy?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276880" y="1700280"/>
            <a:ext cx="3657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Vital signs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PR 60/min, BP 70/45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PV examination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Lots of blood in the vagina, tissue coming through the Cx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This was removed and sent for histology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88b"/>
                </a:solidFill>
                <a:latin typeface="Gill Sans MT"/>
              </a:rPr>
              <a:t>Sara recovers rapidly after this and her pain disappears</a:t>
            </a:r>
            <a:endParaRPr b="0" lang="en-US" sz="20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2349000"/>
            <a:ext cx="365760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1618"/>
                </a:solidFill>
                <a:latin typeface="Gill Sans MT"/>
              </a:rPr>
              <a:t>Does she require a curette?</a:t>
            </a: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1618"/>
                </a:solidFill>
                <a:latin typeface="Gill Sans MT"/>
              </a:rPr>
              <a:t>If not, what should be done</a:t>
            </a: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276880" y="1700280"/>
            <a:ext cx="3657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1618"/>
                </a:solidFill>
                <a:latin typeface="Gill Sans MT"/>
              </a:rPr>
              <a:t>Many gynaecologists would recommend curette as the simplest way of ensuring that the uterus is empty</a:t>
            </a: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1618"/>
                </a:solidFill>
                <a:latin typeface="Gill Sans MT"/>
              </a:rPr>
              <a:t>But a PV ultrasound is as effective, cheaper and safer</a:t>
            </a: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1618"/>
                </a:solidFill>
                <a:latin typeface="Gill Sans MT"/>
              </a:rPr>
              <a:t>Or one could just wait and see</a:t>
            </a: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88b"/>
                </a:solidFill>
                <a:latin typeface="Gill Sans MT"/>
              </a:rPr>
              <a:t>Scan report: There is mixed echogenic and echolucent material in the uterine cavity. The appearances are consistent with incomplete abortion.</a:t>
            </a:r>
            <a:endParaRPr b="0" lang="en-US" sz="20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2349000"/>
            <a:ext cx="365760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11618"/>
                </a:solidFill>
                <a:latin typeface="Gill Sans MT"/>
              </a:rPr>
              <a:t>What is the correct diagnosis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What options are available to Sara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Explain each as you would to Sara 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276880" y="1700280"/>
            <a:ext cx="3657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Incomplete or complete miscarriage depending on the measurements of the intrauterine echoes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In fact, these were &lt;14mm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All symptoms settled over next week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88b"/>
                </a:solidFill>
                <a:latin typeface="Gill Sans MT"/>
              </a:rPr>
              <a:t>When Sara returns a week later she wants to know the sex of the baby that she lost and asks when she can try again.</a:t>
            </a:r>
            <a:endParaRPr b="0" lang="en-US" sz="20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2349000"/>
            <a:ext cx="365760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What do you tell her</a:t>
            </a: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276880" y="1700280"/>
            <a:ext cx="3657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The tests on the removed tissue were to confirm “a simple miscarriage”.  Much more expensive tests are required to determine sex (chromosomes, FISH or DNA)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She should take Folic Acid or pregnancy multivitamins, stop smoking and moderate alcohol intake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And she can “try again” when she is “ready”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88b"/>
                </a:solidFill>
                <a:latin typeface="Gill Sans MT"/>
              </a:rPr>
              <a:t>Histology of the products of conception from Sara’s pregnancy loss reveals “trophoblastic proliferation consistent with a partial mole”</a:t>
            </a:r>
            <a:endParaRPr b="0" lang="en-US" sz="20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2349000"/>
            <a:ext cx="365760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What do you tell her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What are the possible outcomes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What steps are required</a:t>
            </a: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276880" y="1699920"/>
            <a:ext cx="3657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The tests on the removed tissue shows that there is a small risk of “recurrence of growth of the placenta and a small risk of malignancy”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Fortunately this can be readily detected by “blood tests for the pregnancy hormone”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Weekly tests will be required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Contraception to avoid pregnancy for 6 months is required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Please review the PowerPoint “Gestational Trophoblastic Disease”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28480" y="1571400"/>
            <a:ext cx="7086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618"/>
                </a:solidFill>
                <a:latin typeface="Gill Sans MT"/>
              </a:rPr>
              <a:t>Sara is a 19-year old who wants to have a baby.  She stopped taking her Pill a couple of months ago and has not had a period since.  Two days ago a self test for pregnancy was positive.  Today she has experienced some “sharp low abdominal pain” and a few spots of dark blood on her pants.  She comes to you for advice…</a:t>
            </a:r>
            <a:endParaRPr b="0" lang="en-US" sz="2800" spc="-1" strike="noStrike">
              <a:solidFill>
                <a:srgbClr val="5f688b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000" y="19886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f688b"/>
                </a:solidFill>
                <a:latin typeface="Gill Sans MT"/>
              </a:rPr>
              <a:t>Any Questions  or Comments?</a:t>
            </a:r>
            <a:endParaRPr b="0" lang="en-US" sz="39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431720" y="4005360"/>
            <a:ext cx="7407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851"/>
                </a:solidFill>
                <a:latin typeface="Gill Sans MT"/>
              </a:rPr>
              <a:t>Please leave a note on the Welcome Page to this website</a:t>
            </a:r>
            <a:endParaRPr b="0" lang="en-US" sz="26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688b"/>
                </a:solidFill>
                <a:latin typeface="Gill Sans MT"/>
              </a:rPr>
              <a:t>Sara with 6-8 weeks amenorrhoea, PV bleeding and abdominal pain</a:t>
            </a:r>
            <a:endParaRPr b="0" lang="en-US" sz="28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523880"/>
            <a:ext cx="52977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11618"/>
                </a:solidFill>
                <a:latin typeface="Gill Sans MT"/>
              </a:rPr>
              <a:t>What further history is required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11618"/>
                </a:solidFill>
                <a:latin typeface="Gill Sans MT"/>
              </a:rPr>
              <a:t>Do you examine this patient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11618"/>
                </a:solidFill>
                <a:latin typeface="Gill Sans MT"/>
              </a:rPr>
              <a:t>What tests might be useful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688b"/>
                </a:solidFill>
                <a:latin typeface="Gill Sans MT"/>
              </a:rPr>
              <a:t>Sara with 6-8 weeks amenorrhoea, PV bleeding and abdominal pain</a:t>
            </a:r>
            <a:endParaRPr b="0" lang="en-US" sz="28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11618"/>
                </a:solidFill>
                <a:latin typeface="Gill Sans MT"/>
              </a:rPr>
              <a:t>Further history that is desirable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76880" y="1523880"/>
            <a:ext cx="3657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Exact date of the last normal period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(How helpful is that)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More info about the pain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Pregnancy symptoms?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Risk factors for ectopic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Social circumstances, any other pregnancies, medical problems etc.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f688b"/>
                </a:solidFill>
                <a:latin typeface="Gill Sans MT"/>
              </a:rPr>
              <a:t>Risk Factors for Ectopic Pregnancy</a:t>
            </a:r>
            <a:endParaRPr b="0" lang="en-US" sz="39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Previous ectopic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Previous tubal surgery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Includes tubal ligation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And reanastomosis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PID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Infertility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Assisted conception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(IUCD for contraception)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f688b"/>
                </a:solidFill>
                <a:latin typeface="Gill Sans MT"/>
              </a:rPr>
              <a:t>Risk Factors for Miscarriage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Maternal age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2" marL="832680" indent="-214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10% of pregnancies at age 25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lvl="2" marL="832680" indent="-214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But 33% of pregnancies for age &gt;40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Previous miscarriage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Family history of miscarriages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Systemic disease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lvl="2" marL="832680" indent="-214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E.g. Diabetes, Hypertension, Renal, Autoimmune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Smoking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11618"/>
                </a:solidFill>
                <a:latin typeface="Gill Sans MT"/>
              </a:rPr>
              <a:t>Infertility or Assisted conception</a:t>
            </a:r>
            <a:endParaRPr b="0" lang="en-US" sz="32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688b"/>
                </a:solidFill>
                <a:latin typeface="Gill Sans MT"/>
              </a:rPr>
              <a:t>Sara with 6-8 weeks amenorrhoea, PV bleeding and abdominal pain</a:t>
            </a:r>
            <a:endParaRPr b="0" lang="en-US" sz="28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Further history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76880" y="1523880"/>
            <a:ext cx="3657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LMP was a PWB (Pill Withdrawal  Bleed) 5 weeks and 6 days ago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Started the Pill at age of 12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Pain was sudden, RIF, during intercourse and lasted about 30 min 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Has had nausea and mastalgia for a week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No risk factors for ectopic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618"/>
                </a:solidFill>
                <a:latin typeface="Gill Sans MT"/>
              </a:rPr>
              <a:t>Living with a boyfriend, both unemployed and smoking</a:t>
            </a:r>
            <a:endParaRPr b="0" lang="en-US" sz="20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688b"/>
                </a:solidFill>
                <a:latin typeface="Gill Sans MT"/>
              </a:rPr>
              <a:t>Sara with 6-8 weeks amenorrhoea, PV bleeding and abdominal pain</a:t>
            </a:r>
            <a:endParaRPr b="0" lang="en-US" sz="28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11618"/>
                </a:solidFill>
                <a:latin typeface="Gill Sans MT"/>
              </a:rPr>
              <a:t>Examination that is essential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Why?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Vital signs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Abdominal palpation for mass or tenderness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618"/>
                </a:solidFill>
                <a:latin typeface="Gill Sans MT"/>
              </a:rPr>
              <a:t>Must exclude ectopic pregnancy before Sara walks out your door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f688b"/>
                </a:solidFill>
                <a:latin typeface="Gill Sans MT"/>
              </a:rPr>
              <a:t>A patient with 6-8 weeks amenorrhoea, PV bleeding and abdominal pain</a:t>
            </a:r>
            <a:endParaRPr b="0" lang="en-US" sz="28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11618"/>
                </a:solidFill>
                <a:latin typeface="Gill Sans MT"/>
              </a:rPr>
              <a:t>Examination that is desirable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618"/>
                </a:solidFill>
                <a:latin typeface="Gill Sans MT"/>
              </a:rPr>
              <a:t>Why</a:t>
            </a: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Vaginal inspection to confirm uterine bleeding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Cervical dilatation and excitation are difficult signs to elicit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11618"/>
                </a:solidFill>
                <a:latin typeface="Gill Sans MT"/>
              </a:rPr>
              <a:t>Any tissue removed from the cervix or vagina requires histology</a:t>
            </a:r>
            <a:endParaRPr b="0" lang="en-US" sz="24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bc9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1:30:02Z</dcterms:created>
  <dc:creator>MaxB</dc:creator>
  <dc:description/>
  <dc:language>en-US</dc:language>
  <cp:lastModifiedBy>Max</cp:lastModifiedBy>
  <dcterms:modified xsi:type="dcterms:W3CDTF">2017-03-27T04:39:14Z</dcterms:modified>
  <cp:revision>49</cp:revision>
  <dc:subject/>
  <dc:title>Office Gynaecology</dc:title>
</cp:coreProperties>
</file>